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4ECF-A36D-43F5-9EEC-9D4FF2E94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Bleeding Cowboy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4346280"/>
            <a:ext cx="84582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8BEC-B5C4-44E9-9273-694B6C2F9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Bleeding Cowboy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127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0880" y="1599840"/>
            <a:ext cx="4127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4346280"/>
            <a:ext cx="4127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90880" y="4346280"/>
            <a:ext cx="4127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3C54-E1CF-4125-875F-552959390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Bleeding Cowboy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723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6680" y="1599840"/>
            <a:ext cx="2723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76880" y="1599840"/>
            <a:ext cx="2723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4346280"/>
            <a:ext cx="2723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6680" y="4346280"/>
            <a:ext cx="2723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76880" y="4346280"/>
            <a:ext cx="2723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DA30-2DC0-4811-8433-64B12949A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Bleeding Cowboy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93BD-971A-443F-BB48-B27B42A7D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Bleeding Cowboy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9ABD-7360-48BA-BCFA-6313DCE07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Bleeding Cowboy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127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90880" y="1599840"/>
            <a:ext cx="4127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DFC2-CCA0-423D-A4E9-A1CDFE633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Bleeding Cowboy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BB96-6C88-488C-B5AD-2A2F21820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2661-C43C-4CF9-A74C-48E305924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Bleeding Cowboy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127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90880" y="1599840"/>
            <a:ext cx="4127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4346280"/>
            <a:ext cx="4127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A933-30CB-4F3F-8EDF-20950E97B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Bleeding Cowboy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127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0880" y="1599840"/>
            <a:ext cx="4127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90880" y="4346280"/>
            <a:ext cx="4127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7A0A-F87D-4D52-884C-F4E541793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Bleeding Cowboy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127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0880" y="1599840"/>
            <a:ext cx="4127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4346280"/>
            <a:ext cx="84582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9849-02FF-47C8-BB8B-CA10EBCCA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Bleeding Cowboys"/>
              </a:rPr>
              <a:t>Click to edit the title text format</a:t>
            </a:r>
            <a:endParaRPr b="0" lang="en-US" sz="4400" spc="-1" strike="noStrike">
              <a:solidFill>
                <a:srgbClr val="ffcc99"/>
              </a:solidFill>
              <a:latin typeface="Bleeding Cowboy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C54A3-86B7-4219-AE5D-A27229C9FE0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Bleeding Cowboys"/>
              </a:rPr>
              <a:t>Chapter 3 Review</a:t>
            </a:r>
            <a:endParaRPr b="0" lang="en-US" sz="4400" spc="-1" strike="noStrike">
              <a:solidFill>
                <a:srgbClr val="ffcc99"/>
              </a:solidFill>
              <a:latin typeface="Bleeding Cowboy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bruary 27, 200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Bleeding Cowboys"/>
              </a:rPr>
              <a:t>Concept Check 3-3</a:t>
            </a:r>
            <a:endParaRPr b="0" lang="en-US" sz="4400" spc="-1" strike="noStrike">
              <a:solidFill>
                <a:srgbClr val="ffcc99"/>
              </a:solidFill>
              <a:latin typeface="Bleeding Cowboy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ich 1040 form should each of the following individuals use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ffffff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high school student with an after-school job and interest earnings of $480 from savings accou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40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b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college student who, because of ownership of property, is able to itemize deductions rather than take the standard deduc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4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young, entry-level worker with no dependents and income only from salar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40E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Bleeding Cowboys"/>
              </a:rPr>
              <a:t>Concept Check 3-4</a:t>
            </a:r>
            <a:endParaRPr b="0" lang="en-US" sz="4400" spc="-1" strike="noStrike">
              <a:solidFill>
                <a:srgbClr val="ffcc99"/>
              </a:solidFill>
              <a:latin typeface="Bleeding Cowboy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does tax avoidance differ from tax evasio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ax avoidanc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 the use of legitimate methods to reduce one’s tax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ax evasion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 the use of illegal actions to reduce one’s tax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common tax-saving methods are available to most individuals and household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umer purchasing (place of residence, consumer debt, job-related expens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stment decisions (tax-exempt, tax-deferred, self-employment, children’s investment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tirement plans (IRA, Roth IRA, Keogh plan, Education IRA, 401 (K)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Bleeding Cowboys"/>
              </a:rPr>
              <a:t>Concept Check 3-4</a:t>
            </a:r>
            <a:endParaRPr b="0" lang="en-US" sz="4400" spc="-1" strike="noStrike">
              <a:solidFill>
                <a:srgbClr val="ffcc99"/>
              </a:solidFill>
              <a:latin typeface="Bleeding Cowboy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the following tax situations, indicate if this item refers to tax-exempt income or tax-deferred incom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ffffff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est earned on municipal bon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x exemp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. Earnings on an individual retirement ac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x deferr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. Education IRA earnings used for college expen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x exemp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. Income of U.S. citizens working in another count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x exemp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Bleeding Cowboys"/>
              </a:rPr>
              <a:t>Vocabulary</a:t>
            </a:r>
            <a:endParaRPr b="0" lang="en-US" sz="4400" spc="-1" strike="noStrike">
              <a:solidFill>
                <a:srgbClr val="ffcc99"/>
              </a:solidFill>
              <a:latin typeface="Bleeding Cowboy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justed gross income (AGI): </a:t>
            </a:r>
            <a:r>
              <a:rPr b="0" lang="en-US" sz="2400" spc="-1" strike="noStrike">
                <a:solidFill>
                  <a:srgbClr val="ffffff"/>
                </a:solidFill>
                <a:latin typeface="Frutiger-Roman"/>
              </a:rPr>
              <a:t>Gross income reduced by certain adjustments, such as contributions to an individual retirement (IRA) and alimony payme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verage tax rate: Total tax due divided by taxable incom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 gains: Profits from the sale of a capital asset such as stocks, bonds, or real esta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rned income: Money received for personal effort, such as wages, salary, commission, fees, tips, or bonus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ate tax: A tax imposed on the value of a person’s property at the time of deat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cise tax: A tax imposed on specific goods and services, such as gasoline, cigarettes, alcoholic beverages, tires,and air trave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ircl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Bleeding Cowboys"/>
              </a:rPr>
              <a:t>More vocabulary</a:t>
            </a:r>
            <a:endParaRPr b="0" lang="en-US" sz="4400" spc="-1" strike="noStrike">
              <a:solidFill>
                <a:srgbClr val="ffcc99"/>
              </a:solidFill>
              <a:latin typeface="Bleeding Cowboy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clusion: An amount not included in gross incom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emption: A deduction from adjusted gross income for yourself, your spouse, and qualified depende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heritance tax: A tax levied on the value of property bequeathed by a deceased pers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stment income: Money received in the form of dividends, interest, or rent from investments; also called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portfolio incom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emized deductions: Expenses that can be deducted from adjusted gross income, such as medical expenses, real estate property taxes, home mortgage interest, charitable contributions, casualty losses, and certain work-related expens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ircl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Bleeding Cowboys"/>
              </a:rPr>
              <a:t>Even more</a:t>
            </a:r>
            <a:endParaRPr b="0" lang="en-US" sz="4400" spc="-1" strike="noStrike">
              <a:solidFill>
                <a:srgbClr val="ffcc99"/>
              </a:solidFill>
              <a:latin typeface="Bleeding Cowboy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ginal tax rate: The rate used to calculate tax on the last (and next) dollar of taxable incom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ssive income: Income resulting from business activities in which you do not actively participa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ndard deduction: A set amount on which no taxes are pai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xable income: The net amount of income, after allowable deductions, on which income tax is comput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x audit: A detailed examination of your tax return by the Internal Revenue Servi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ircl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Bleeding Cowboys"/>
              </a:rPr>
              <a:t>And one last page…</a:t>
            </a:r>
            <a:endParaRPr b="0" lang="en-US" sz="4400" spc="-1" strike="noStrike">
              <a:solidFill>
                <a:srgbClr val="ffcc99"/>
              </a:solidFill>
              <a:latin typeface="Bleeding Cowboy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x avoidance: The use of legitimate methods to reduce one’s tax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x credit: An amount subtracted directly from the amount of taxes ow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x deduction: An amount subtracted from adjusted gross income to arrive at taxable incom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x-deferred income: Income that will be taxed at a later da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x evasion: The use of illegal actions to reduce one’s tax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x-exempt income: Income that is not subject to tax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Bleeding Cowboys"/>
              </a:rPr>
              <a:t>Objectives</a:t>
            </a:r>
            <a:endParaRPr b="0" lang="en-US" sz="4400" spc="-1" strike="noStrike">
              <a:solidFill>
                <a:srgbClr val="ffcc99"/>
              </a:solidFill>
              <a:latin typeface="Bleeding Cowboy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this chapter, you will learn t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Identify the major taxes paid by people in our socie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Calculate taxable income and the amount owed for federal income tax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Prepare a federal income tax retur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 Select appropriate tax strategies for various life situa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Bleeding Cowboys"/>
              </a:rPr>
              <a:t>Concept Check 3-1</a:t>
            </a:r>
            <a:endParaRPr b="0" lang="en-US" sz="4400" spc="-1" strike="noStrike">
              <a:solidFill>
                <a:srgbClr val="ffcc99"/>
              </a:solidFill>
              <a:latin typeface="Bleeding Cowboy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are the four major categories of taxe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xes on purch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les ta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cise tax (sin tax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xes on proper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al estate ta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sonal property ta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xes on weal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ate ta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heritance ta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xes on in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ome ta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cial security ta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Bleeding Cowboys"/>
              </a:rPr>
              <a:t>Concept Check 3-1</a:t>
            </a:r>
            <a:endParaRPr b="0" lang="en-US" sz="4400" spc="-1" strike="noStrike">
              <a:solidFill>
                <a:srgbClr val="ffcc99"/>
              </a:solidFill>
              <a:latin typeface="Bleeding Cowboy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each of the following situations, list the type of tax that is being describ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tax on the value of a person’s hous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perty ta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. The additional charge for gasoline and air trave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cise ta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. Payroll deductions for federal government retirement benefi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cial security ta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. Amount owed on property received from a deceased pers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heritance ta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. Payroll deductions for a direct tax on earn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ome ta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Bleeding Cowboys"/>
              </a:rPr>
              <a:t>Concept Check 3-2</a:t>
            </a:r>
            <a:endParaRPr b="0" lang="en-US" sz="4400" spc="-1" strike="noStrike">
              <a:solidFill>
                <a:srgbClr val="ffcc99"/>
              </a:solidFill>
              <a:latin typeface="Bleeding Cowboy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does tax-exempt income differ from tax-deferred incom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lusions may also be referred to as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ax-exempt income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r income that is not subject to tax. For example, interest earned on most state and city bonds is exempt from federal income tax.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ax-deferred incom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s income that will be taxed at a later da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would you use the standard deduction instead of itemized deduction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ou would use a standard deduction if your itemized deduction is less than the standard deduc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the difference between your marginal tax rate and your average tax rat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rginal tax rat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re used to calculate tax on the last (and next) dollar of taxable income.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verage tax rat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s based on the total tax due divided by taxable incom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Bleeding Cowboys"/>
              </a:rPr>
              <a:t>Concept Check 3-2</a:t>
            </a:r>
            <a:endParaRPr b="0" lang="en-US" sz="4400" spc="-1" strike="noStrike">
              <a:solidFill>
                <a:srgbClr val="ffcc99"/>
              </a:solidFill>
              <a:latin typeface="Bleeding Cowboy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or each of the following, indicate if the item is a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ax deduction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 a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ax cred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te personal income taxes pa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du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b.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ritable don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du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c.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ild care co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d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d.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ving expen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du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Bleeding Cowboys"/>
              </a:rPr>
              <a:t>Concept Check 3-3</a:t>
            </a:r>
            <a:endParaRPr b="0" lang="en-US" sz="4400" spc="-1" strike="noStrike">
              <a:solidFill>
                <a:srgbClr val="ffcc99"/>
              </a:solidFill>
              <a:latin typeface="Bleeding Cowboy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what ways does your filing status affect preparation of your federal income tax retur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ery citizen or resident of the United States and every U.S. citizen who is a resident of Puerto Rico is required to file a federal income tax return if his or her income is above a certain amount. The amount is based on the person’s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filing statu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other factors such as ag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are the main sources available to help people prepare their taxe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IRS, tax publications, the internet, tax preparation servi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Bleeding Cowboys"/>
              </a:rPr>
              <a:t>Concept Check 3-3</a:t>
            </a:r>
            <a:endParaRPr b="0" lang="en-US" sz="4400" spc="-1" strike="noStrike">
              <a:solidFill>
                <a:srgbClr val="ffcc99"/>
              </a:solidFill>
              <a:latin typeface="Bleeding Cowboy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actions can reduce the chances of an IRS audi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ganize all tax-related information for easy acces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llow instructions carefully. • Use the proper tax rate schedule or tax table colum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 sure to claim the correct number of exemptions and correct amounts of standard deduct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eck your arithmetic several tim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gn your return (both spouses must sign a joint return), or the IRS won’t process it.  Be sure to include the correct Social Security number(s) and to record amounts on the correct lin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Bleeding Cowboys"/>
              </a:rPr>
              <a:t>continued</a:t>
            </a:r>
            <a:endParaRPr b="0" lang="en-US" sz="4400" spc="-1" strike="noStrike">
              <a:solidFill>
                <a:srgbClr val="ffcc99"/>
              </a:solidFill>
              <a:latin typeface="Bleeding Cowboy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tach necessary documentation such as your W-2 forms and required supporting schedul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ke the check payable to “U.S. Treasury.”  Put your Social Security number, the tax year, and a daytime telephone number on your check—and be sure to sign the check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eep a photocopy of your retur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t the proper postage on your mailing envelop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nally, check everything again—and file on time! Care taken when you file your income tax can result in “many happy returns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7T16:45:59Z</dcterms:created>
  <dc:creator>nuhs</dc:creator>
  <dc:description/>
  <dc:language>en-US</dc:language>
  <cp:lastModifiedBy>nuhs</cp:lastModifiedBy>
  <dcterms:modified xsi:type="dcterms:W3CDTF">2008-02-27T19:57:49Z</dcterms:modified>
  <cp:revision>3</cp:revision>
  <dc:subject/>
  <dc:title>Chapter 3 Review</dc:title>
</cp:coreProperties>
</file>